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12.gif" ContentType="image/gif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377-3B14-4BB0-AA41-D6B5450B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8E0-9815-42B8-88BB-08D7A08B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691-00C9-40AD-AC21-EAE9B2AC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41F-0025-48E8-B0C1-30376F22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D0C4-7957-4D03-B578-E3D62477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A8C4-BBB0-4BA9-8268-115E5F47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F60C-6D82-4A44-B6FB-30FDA635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603B-A416-4B5D-A111-E881A9B5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C68E-6139-4473-BAF9-50DFE36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F21F-934B-419D-B42C-20BCA59A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8264-9E44-4C61-A638-FC2C8B56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DBD-B0C6-4B93-AC74-2B094DC0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C0D5-E947-4BD5-9768-8F4DB4F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9B8-51C7-4554-92EE-D80AFD6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C60F-989C-4F0D-9F70-613FBD9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18CA-68C2-4A25-8A00-DA7EEAB3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C539-E705-4398-ABA8-CA0432DC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A61-E611-448D-BD88-EEB6FBF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DDC-013B-499E-971A-EB9F87A3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63F-BC34-433D-A3A4-4C5CBEDD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069-900C-41D9-9790-FB812AA9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75F-021C-4A48-BF1F-156BED4A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5E9-D857-4B5B-809E-BF0910C7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44B-7F62-4249-B067-7E25CAF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6DCC-B446-499C-95B5-2308ECCA05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467D-3740-41F5-9D1B-015952059A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Kinematics in One Dimen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gs. 19-3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905120" y="838080"/>
            <a:ext cx="5029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PTER 2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9" name="Picture 6" descr="running spiderman.gif"/>
          <p:cNvPicPr/>
          <p:nvPr/>
        </p:nvPicPr>
        <p:blipFill>
          <a:blip r:embed="rId1"/>
          <a:stretch/>
        </p:blipFill>
        <p:spPr>
          <a:xfrm>
            <a:off x="6477120" y="2857680"/>
            <a:ext cx="1600200" cy="367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Displa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657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nge in displacement 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0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=  30 m – 10 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0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0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=  20 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7" descr="02_05"/>
          <p:cNvPicPr/>
          <p:nvPr/>
        </p:nvPicPr>
        <p:blipFill>
          <a:blip r:embed="rId1"/>
          <a:stretch/>
        </p:blipFill>
        <p:spPr>
          <a:xfrm>
            <a:off x="4648320" y="160020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9"/>
          <p:cNvSpPr/>
          <p:nvPr/>
        </p:nvSpPr>
        <p:spPr>
          <a:xfrm>
            <a:off x="1066680" y="289548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gative Displa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erson is walking in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pposi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irection on the x-axis 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10 m – 30 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20 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7" descr="02_06"/>
          <p:cNvPicPr/>
          <p:nvPr/>
        </p:nvPicPr>
        <p:blipFill>
          <a:blip r:embed="rId1"/>
          <a:stretch/>
        </p:blipFill>
        <p:spPr>
          <a:xfrm>
            <a:off x="4648320" y="1752480"/>
            <a:ext cx="4267080" cy="41911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8"/>
          <p:cNvSpPr/>
          <p:nvPr/>
        </p:nvSpPr>
        <p:spPr>
          <a:xfrm>
            <a:off x="838080" y="34290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80880" y="5257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negative value here simply indicates a direction! (to the lef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ED VS. VELOC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pe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CALAR quantity.  It is defined as the tot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istan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raveled divided by the time it takes to travel this distan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= total distance/total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Veloc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VECTOR quantity.  It is defined in terms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isplace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ther than total dist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5" descr="train_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ELOCITY</a:t>
            </a:r>
            <a:br>
              <a:rPr sz="40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V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OTAL DISPLAC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LOC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ME ELAP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  =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809880" y="39625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3809880" y="457200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3276720" y="44956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locity is a function of ti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o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car is traveling at a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onsta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eloc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Botto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car is traveling with a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vary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eloc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1" descr="02_09ab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CHANICS:  the study of the motion of objects &amp; related forces. Two divisions of mechanics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Kinematic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describe HOW objects mo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Dynamic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deals with forces &amp; WHY objects mo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9" descr="j0301066"/>
          <p:cNvPicPr/>
          <p:nvPr/>
        </p:nvPicPr>
        <p:blipFill>
          <a:blip r:embed="rId1"/>
          <a:stretch/>
        </p:blipFill>
        <p:spPr>
          <a:xfrm>
            <a:off x="3657600" y="2084400"/>
            <a:ext cx="1827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nslational Mo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hapter 2, we will only discuss objects that mo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ith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rotat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type of motion is calle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LATIONAL MO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02_01ab"/>
          <p:cNvPicPr/>
          <p:nvPr/>
        </p:nvPicPr>
        <p:blipFill>
          <a:blip r:embed="rId1"/>
          <a:stretch/>
        </p:blipFill>
        <p:spPr>
          <a:xfrm>
            <a:off x="5097600" y="1600200"/>
            <a:ext cx="3139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REFERENCE FRAME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59200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y measurement of position, distance, or speed must be made with respect to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frame o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reference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ference frame or Frame of Refer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erson walks 5 km/h.  The train is moving at 80 km/h with respect to the ground.  How fast is the person going with respect to the groun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7" descr="02_02"/>
          <p:cNvPicPr/>
          <p:nvPr/>
        </p:nvPicPr>
        <p:blipFill>
          <a:blip r:embed="rId1"/>
          <a:stretch/>
        </p:blipFill>
        <p:spPr>
          <a:xfrm>
            <a:off x="1041480" y="3941640"/>
            <a:ext cx="7061040" cy="21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ecifying the Motion of an Obje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often specify the motion of an object by using a set of coordinate axes.  This can represent our frame of refere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one dimensional motion, we choose the x-axis as the line along which motion takes pla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n object is dropped, motion is vertical and we use the y-ax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7" descr="02_03"/>
          <p:cNvPicPr/>
          <p:nvPr/>
        </p:nvPicPr>
        <p:blipFill>
          <a:blip r:embed="rId1"/>
          <a:stretch/>
        </p:blipFill>
        <p:spPr>
          <a:xfrm>
            <a:off x="4648320" y="1919160"/>
            <a:ext cx="40384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STANCE vs. DISPLAC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ance traveled here is not the same as the DISPLACEMEN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lacement is the change in postion of the object or how far the object is from its starting posi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9" descr="02_04"/>
          <p:cNvPicPr/>
          <p:nvPr/>
        </p:nvPicPr>
        <p:blipFill>
          <a:blip r:embed="rId1"/>
          <a:stretch/>
        </p:blipFill>
        <p:spPr>
          <a:xfrm>
            <a:off x="228600" y="3886200"/>
            <a:ext cx="5867280" cy="2666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0"/>
          <p:cNvSpPr/>
          <p:nvPr/>
        </p:nvSpPr>
        <p:spPr>
          <a:xfrm>
            <a:off x="6248520" y="3352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tal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ist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ravel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746748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00 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6324480" y="4876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tal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isplace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7315200" y="6019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0 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0" descr="dog running around.gif"/>
          <p:cNvPicPr/>
          <p:nvPr/>
        </p:nvPicPr>
        <p:blipFill>
          <a:blip r:embed="rId2"/>
          <a:stretch/>
        </p:blipFill>
        <p:spPr>
          <a:xfrm>
            <a:off x="1066680" y="0"/>
            <a:ext cx="70866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say you go 50 m eas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1676520" y="1905120"/>
            <a:ext cx="4800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219320" y="31240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n you go 10 m south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6477120" y="1981080"/>
            <a:ext cx="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613560" y="137160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0 m ea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705720" y="30481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 m sou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143000" y="44197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have gone a distance of 60 m, but your displacement is less than that!  You could find it by using the Pythagorean Theorem.  Where the displacement is equal to the hypotene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676520" y="1905120"/>
            <a:ext cx="4800600" cy="1143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lacement is a vector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lacement 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gnitude &amp; direction.  Vectors are represented with arrow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11" descr="02_05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218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02_06"/>
          <p:cNvPicPr/>
          <p:nvPr/>
        </p:nvPicPr>
        <p:blipFill>
          <a:blip r:embed="rId2"/>
          <a:stretch/>
        </p:blipFill>
        <p:spPr>
          <a:xfrm>
            <a:off x="5114880" y="1600200"/>
            <a:ext cx="3103560" cy="2189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914400" y="5305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cement is represented with an X since it is along the x-axis.  Displacement is then “the change in x”  o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1523880" y="6477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182880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25:07Z</dcterms:created>
  <dc:creator>jluckey</dc:creator>
  <dc:description/>
  <dc:language>en-US</dc:language>
  <cp:lastModifiedBy>jluckey</cp:lastModifiedBy>
  <dcterms:modified xsi:type="dcterms:W3CDTF">2011-08-07T21:34:49Z</dcterms:modified>
  <cp:revision>6</cp:revision>
  <dc:subject/>
  <dc:title>Kinematics in One Dimension</dc:title>
</cp:coreProperties>
</file>